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0.png" ContentType="image/png"/>
  <Override PartName="/ppt/media/image5.wmf" ContentType="image/x-wmf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87480"/>
            <a:ext cx="7772400" cy="27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imes New Roman"/>
              </a:rPr>
              <a:t>cBio Meeting, March 2-3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3429000"/>
            <a:ext cx="8153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HISEL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pt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niversity of Victoria, Canad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000000"/>
                </a:solidFill>
                <a:latin typeface="Kristen ITC"/>
              </a:rPr>
              <a:t>  </a:t>
            </a:r>
            <a:r>
              <a:rPr b="0" i="1" lang="en-US" sz="3600" spc="-1" strike="noStrike">
                <a:solidFill>
                  <a:srgbClr val="000000"/>
                </a:solidFill>
                <a:latin typeface="Georgia"/>
              </a:rPr>
              <a:t>Visualization of ontologies and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Georgia"/>
              </a:rPr>
              <a:t>data annotation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95480"/>
            <a:ext cx="7543800" cy="0"/>
          </a:xfrm>
          <a:prstGeom prst="line">
            <a:avLst/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4572000"/>
            <a:ext cx="2994120" cy="93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0" t="7929" r="58703" b="55454"/>
          <a:stretch/>
        </p:blipFill>
        <p:spPr>
          <a:xfrm>
            <a:off x="6095880" y="3657600"/>
            <a:ext cx="221004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mptViz:  visualizing two versions of an ontolog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43000" y="914400"/>
            <a:ext cx="6781680" cy="5410080"/>
            <a:chOff x="1143000" y="914400"/>
            <a:chExt cx="6781680" cy="5410080"/>
          </a:xfrm>
        </p:grpSpPr>
        <p:grpSp>
          <p:nvGrpSpPr>
            <p:cNvPr id="70" name=""/>
            <p:cNvGrpSpPr/>
            <p:nvPr/>
          </p:nvGrpSpPr>
          <p:grpSpPr>
            <a:xfrm>
              <a:off x="1143000" y="914400"/>
              <a:ext cx="6781680" cy="5410080"/>
              <a:chOff x="1143000" y="914400"/>
              <a:chExt cx="6781680" cy="5410080"/>
            </a:xfrm>
          </p:grpSpPr>
          <p:pic>
            <p:nvPicPr>
              <p:cNvPr id="71" name="koala_screenshot-636" descr=""/>
              <p:cNvPicPr/>
              <p:nvPr/>
            </p:nvPicPr>
            <p:blipFill>
              <a:blip r:embed="rId1"/>
              <a:srcRect l="81473" t="3327" r="2706" b="65014"/>
              <a:stretch/>
            </p:blipFill>
            <p:spPr>
              <a:xfrm>
                <a:off x="1507680" y="4841640"/>
                <a:ext cx="964080" cy="13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43000" y="914400"/>
                <a:ext cx="6781680" cy="5410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3" name="koala_screenshot-636" descr=""/>
            <p:cNvPicPr/>
            <p:nvPr/>
          </p:nvPicPr>
          <p:blipFill>
            <a:blip r:embed="rId3"/>
            <a:srcRect l="82175" t="2875" r="3409" b="65615"/>
            <a:stretch/>
          </p:blipFill>
          <p:spPr>
            <a:xfrm>
              <a:off x="1507680" y="4841640"/>
              <a:ext cx="881280" cy="130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termining requiremen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Unanswered questions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1717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1717ff"/>
                </a:solidFill>
                <a:latin typeface="Georgia"/>
              </a:rPr>
              <a:t>Where</a:t>
            </a: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 should a visualization be used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1717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1717ff"/>
                </a:solidFill>
                <a:latin typeface="Georgia"/>
              </a:rPr>
              <a:t>When</a:t>
            </a: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 would the user want to see it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1717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1717ff"/>
                </a:solidFill>
                <a:latin typeface="Georgia"/>
              </a:rPr>
              <a:t>How</a:t>
            </a: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 is the data best represented in the visualization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Fundamental Visualization Ques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How can we provide a </a:t>
            </a:r>
            <a:r>
              <a:rPr b="1" lang="en-CA" sz="2000" spc="-1" strike="noStrike">
                <a:solidFill>
                  <a:srgbClr val="1717ff"/>
                </a:solidFill>
                <a:latin typeface="Georgia"/>
              </a:rPr>
              <a:t>useful</a:t>
            </a: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 visualization at the moment a user </a:t>
            </a:r>
            <a:r>
              <a:rPr b="1" lang="en-CA" sz="2000" spc="-1" strike="noStrike">
                <a:solidFill>
                  <a:srgbClr val="1717ff"/>
                </a:solidFill>
                <a:latin typeface="Georgia"/>
              </a:rPr>
              <a:t>needs</a:t>
            </a: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 it?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Need better support for task-driven “visualization-on-demand”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Visualizations should be readily available from </a:t>
            </a:r>
            <a:r>
              <a:rPr b="1" lang="en-CA" sz="2000" spc="-1" strike="noStrike">
                <a:solidFill>
                  <a:srgbClr val="1717ff"/>
                </a:solidFill>
                <a:latin typeface="Georgia"/>
              </a:rPr>
              <a:t>familiar too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A visualization should immediately answer a specific question or support a particular </a:t>
            </a:r>
            <a:r>
              <a:rPr b="1" lang="en-CA" sz="2000" spc="-1" strike="noStrike">
                <a:solidFill>
                  <a:srgbClr val="1717ff"/>
                </a:solidFill>
                <a:latin typeface="Georgia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They should not take too much effort to generate and they should be </a:t>
            </a:r>
            <a:r>
              <a:rPr b="1" lang="en-CA" sz="2000" spc="-1" strike="noStrike">
                <a:solidFill>
                  <a:srgbClr val="1717ff"/>
                </a:solidFill>
                <a:latin typeface="Georgia"/>
              </a:rPr>
              <a:t>efficien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ews currently proposed for the toolki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verview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ub concept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Query view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vigational view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fference view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gineering goals and Evalua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rvices provided by the toolkit will have well-defined and clearly documented APIs to support the BioPortal tool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oftware engineering principle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teroperabil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ustomizabil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tensibil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alua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strument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tegration case stud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monstrations of Current Work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gree of Interest Model  (Chri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Jambalaya Lite Applets (Chri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ntology Search (Sea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ictorial based ontology navigation (Nigam/Tricia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gree of Interest Mod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address the problem of </a:t>
            </a:r>
            <a:r>
              <a:rPr b="0" lang="en-US" sz="2800" spc="-1" strike="noStrike">
                <a:solidFill>
                  <a:srgbClr val="1717ff"/>
                </a:solidFill>
                <a:latin typeface="Georgia"/>
              </a:rPr>
              <a:t>information overloa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with large ontologies and to identify </a:t>
            </a:r>
            <a:r>
              <a:rPr b="0" lang="en-US" sz="2800" spc="-1" strike="noStrike">
                <a:solidFill>
                  <a:srgbClr val="1717ff"/>
                </a:solidFill>
                <a:latin typeface="Georgia"/>
              </a:rPr>
              <a:t>relevant inform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degree of interest model is developed by </a:t>
            </a:r>
            <a:r>
              <a:rPr b="0" lang="en-US" sz="2800" spc="-1" strike="noStrike">
                <a:solidFill>
                  <a:srgbClr val="1717ff"/>
                </a:solidFill>
                <a:latin typeface="Georgia"/>
              </a:rPr>
              <a:t>monitoring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he user’s activities (e.g. navigation actions, editing and annotation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model is used to </a:t>
            </a:r>
            <a:r>
              <a:rPr b="0" lang="en-US" sz="2800" spc="-1" strike="noStrike">
                <a:solidFill>
                  <a:srgbClr val="1717ff"/>
                </a:solidFill>
                <a:latin typeface="Georgia"/>
              </a:rPr>
              <a:t>highlight or filt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more “interesting” elements in the ontolog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tending the work of Stuart Card (Degree of Interest Trees) and Mik Kersten (Mylar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ambalaya Lite with Mylar activate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3127" t="3125" r="3127" b="6251"/>
          <a:stretch/>
        </p:blipFill>
        <p:spPr>
          <a:xfrm>
            <a:off x="685800" y="838080"/>
            <a:ext cx="784872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8720280" cy="674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13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13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am Member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rgaret-Anne Storey (PI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hris Callendar (Programmer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isualization framework for Bioporta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gree of Interest model implement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icia d’Entremont (PhD student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ictorial based ontology navigation (assisting Nigam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gree of interest models and ontolog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an Falconer (PhD student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ntology search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lgorithms and visualizations of ontology align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ria-Elena Hernandez (Phd student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isualizing data annotations – clinical trial visualiz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tology Alignmen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urrent approache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y heavily on syntactic comparis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blems with synonymous concep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ed semantic comparis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kull -&gt; craniu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NA -&gt; deoxyribonucleic aci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tology Alignmen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veloped semantic comparison algorith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n match synonyms, abbreviations, phrases, etc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sted against synonym datase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lan to develop a new alignment algorithm and incorporate this techniqu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ictorial guided ontology naviga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00280" y="685800"/>
            <a:ext cx="761976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ort term goals (next year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717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ff"/>
                </a:solidFill>
                <a:latin typeface="Georgia"/>
              </a:rPr>
              <a:t>Jambalaya Lit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applets – deploy and integrate with Bioportal (May 2006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itial prototype of </a:t>
            </a:r>
            <a:r>
              <a:rPr b="0" lang="en-US" sz="2400" spc="-1" strike="noStrike">
                <a:solidFill>
                  <a:srgbClr val="1717ff"/>
                </a:solidFill>
                <a:latin typeface="Georgia"/>
              </a:rPr>
              <a:t>Jambalaya thin clien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for Bioportal (Dec 2006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1717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ff"/>
                </a:solidFill>
                <a:latin typeface="Georgia"/>
              </a:rPr>
              <a:t>Degree of interes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model – evaluate through integrations with Protégé and OBOEdi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Dec 2006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1717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ff"/>
                </a:solidFill>
                <a:latin typeface="Georgia"/>
              </a:rPr>
              <a:t>Ontology searc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(September 2006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pport for </a:t>
            </a:r>
            <a:r>
              <a:rPr b="0" lang="en-US" sz="2400" spc="-1" strike="noStrike">
                <a:solidFill>
                  <a:srgbClr val="1717ff"/>
                </a:solidFill>
                <a:latin typeface="Georgia"/>
              </a:rPr>
              <a:t>visualizing clinical trial data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(Dec 2006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onger term goal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17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ff"/>
                </a:solidFill>
                <a:latin typeface="Georgia"/>
              </a:rPr>
              <a:t>Visualization framework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[Chris]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olkit of visualization views and widge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isualization ontolog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ppings (graph transformation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isualization thin client for Bioportal:  proposed technology SVG and Ajax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17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ff"/>
                </a:solidFill>
                <a:latin typeface="Georgia"/>
              </a:rPr>
              <a:t>Ontology alignmen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visualizations and algorithms [Sean]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17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ff"/>
                </a:solidFill>
                <a:latin typeface="Georgia"/>
              </a:rPr>
              <a:t>Degree of interest mode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ntegrated and evaluated with Bioportal  [Tricia]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17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ff"/>
                </a:solidFill>
                <a:latin typeface="Georgia"/>
              </a:rPr>
              <a:t>Visualizing data annotation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cross the DBPs [Maleh]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ur research goal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Core 1: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evelop visualization services for Bioporta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 visualization </a:t>
            </a:r>
            <a:r>
              <a:rPr b="1" lang="en-US" sz="2000" spc="-1" strike="noStrike">
                <a:solidFill>
                  <a:srgbClr val="1717ff"/>
                </a:solidFill>
                <a:latin typeface="Georgia"/>
              </a:rPr>
              <a:t>toolki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 visualization </a:t>
            </a:r>
            <a:r>
              <a:rPr b="1" lang="en-US" sz="2000" spc="-1" strike="noStrike">
                <a:solidFill>
                  <a:srgbClr val="1717ff"/>
                </a:solidFill>
                <a:latin typeface="Georgia"/>
              </a:rPr>
              <a:t>ontolog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lang="en-US" sz="2000" spc="-1" strike="noStrike">
                <a:solidFill>
                  <a:srgbClr val="1717ff"/>
                </a:solidFill>
                <a:latin typeface="Georgia"/>
              </a:rPr>
              <a:t>mapping mechanism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to specify how to integrate and customize the  available services for particular ontologies and task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aluate through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1717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17ff"/>
                </a:solidFill>
                <a:latin typeface="Georgia"/>
              </a:rPr>
              <a:t>instrumentation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and </a:t>
            </a:r>
            <a:r>
              <a:rPr b="1" lang="en-US" sz="2000" spc="-1" strike="noStrike">
                <a:solidFill>
                  <a:srgbClr val="1717ff"/>
                </a:solidFill>
                <a:latin typeface="Georgia"/>
              </a:rPr>
              <a:t>integration case stud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Core 2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isualization of data annotations and meta-data analysi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IV clinical tria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henotype annotatio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pproach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termine requirements for visualization in an </a:t>
            </a:r>
            <a:r>
              <a:rPr b="0" lang="en-US" sz="2800" spc="-1" strike="noStrike">
                <a:solidFill>
                  <a:srgbClr val="1717ff"/>
                </a:solidFill>
                <a:latin typeface="Georgia"/>
              </a:rPr>
              <a:t>iterativ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manner: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dentify different user groups and user tasks (driven by the Core 3 project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raw from research o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uman computer intera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isualiz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daptive interfac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puter supported collaborative wor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vious work and expertis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Jambalaya – visualization support for Protégé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veloped and evaluated visualization tools to support comprehension, navigation and collaboration in software engineer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story of Jambalay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Georgia"/>
              </a:rPr>
              <a:t>What is Jambalaya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Jambalaya = SHriMP + Protégé &amp; Protégé-OWL glu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What is SHriMP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Georgia"/>
              </a:rPr>
              <a:t>Nested (or un-nested) graph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Georgia"/>
              </a:rPr>
              <a:t>Smooth animated zooming &amp; graph layout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Georgia"/>
              </a:rPr>
              <a:t>Embedding of AWT/Swing widgets (e.g. Protégé forms) within visualizatio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91320" y="914400"/>
            <a:ext cx="28954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ambalaya:  Protégé + SHriMP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0" b="3002"/>
          <a:stretch/>
        </p:blipFill>
        <p:spPr>
          <a:xfrm>
            <a:off x="838080" y="939960"/>
            <a:ext cx="7467840" cy="54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ess view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10262" r="15322" b="17363"/>
          <a:stretch/>
        </p:blipFill>
        <p:spPr>
          <a:xfrm>
            <a:off x="457200" y="914400"/>
            <a:ext cx="770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ry View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001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ottom up approach instead of top down (like other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voked from Class’ right-click menu, on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ny tab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408720" cy="4135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10642" t="0" r="8073" b="0"/>
          <a:stretch/>
        </p:blipFill>
        <p:spPr>
          <a:xfrm>
            <a:off x="5562720" y="1905120"/>
            <a:ext cx="3311280" cy="1604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6:53:30Z</dcterms:created>
  <dc:creator>     </dc:creator>
  <dc:description/>
  <dc:language>en-US</dc:language>
  <cp:lastModifiedBy>mstorey_2</cp:lastModifiedBy>
  <dcterms:modified xsi:type="dcterms:W3CDTF">2006-03-03T22:29:55Z</dcterms:modified>
  <cp:revision>317</cp:revision>
  <dc:subject/>
  <dc:title>AlmostBlue Consulting presents…</dc:title>
</cp:coreProperties>
</file>